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756775" cy="73183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CAC-5D09-47B9-9C8B-AA8B85A4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40" y="4231080"/>
            <a:ext cx="87818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724-303A-41E4-B13F-9C645CE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7440" y="423108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7440" y="423108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F1F-3863-4DBA-864A-B5E3E8E2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6720" y="170784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000" y="170784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440" y="423108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6720" y="423108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000" y="4231080"/>
            <a:ext cx="2827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100-1453-441F-A1C6-EA423E1B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73-B310-4AB0-8064-15FDBC7F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D0C-2448-47B5-80FB-31CDF5E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42854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7440" y="1707840"/>
            <a:ext cx="42854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D1B-65B4-4791-8B8E-F11C023A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E2A-1258-4FAB-90E4-602DD71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7440" y="293760"/>
            <a:ext cx="878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90F-E94D-48CA-837C-E29671B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7440" y="1707840"/>
            <a:ext cx="42854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7440" y="423108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815-34FB-40B2-AE5A-6828B29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42854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7440" y="423108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C34-B105-4DD4-B221-BCAF3A6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7440" y="1707840"/>
            <a:ext cx="42854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40" y="4231080"/>
            <a:ext cx="8781840" cy="2304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586-FDB8-4243-A66A-B94D3AF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marL="365040" indent="-3650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04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244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7080" y="6665760"/>
            <a:ext cx="2276280" cy="508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zh-CN" sz="15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3600" y="6665760"/>
            <a:ext cx="3089520" cy="508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zh-CN" sz="15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2640" y="6665760"/>
            <a:ext cx="2276280" cy="5083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zh-CN" sz="15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75ED8AB2-4174-4D1F-A2E9-FA8DCE20708C}" type="slidenum"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4360" y="6827760"/>
            <a:ext cx="266400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GB" sz="1900" spc="-1" strike="noStrike">
                <a:solidFill>
                  <a:srgbClr val="5f5f5f"/>
                </a:solidFill>
                <a:latin typeface="Arial"/>
              </a:rPr>
              <a:t>Practice pair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298-CE26-4FE0-BB40-E9CD2DC06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C0E-1067-402A-A4EB-ACC865E52F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6AB-5831-4CA5-AD62-5A3C9AC57C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660-1F7D-4DC0-8B87-D0C0B18F5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379-B22E-4B6D-940D-24A008587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3F7-813B-4442-9795-94AF17BEE8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EB6-E66B-4930-8863-ABB8B76E5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33D-119A-43AC-B14B-0092B9808F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F76-6496-4479-9051-425A014A23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5FF-F3DD-4F01-B1B6-87C7F8905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769-BF4D-4582-A164-9221174083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4360" y="6827760"/>
            <a:ext cx="266400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GB" sz="1900" spc="-1" strike="noStrike">
                <a:solidFill>
                  <a:srgbClr val="5f5f5f"/>
                </a:solidFill>
                <a:latin typeface="Arial"/>
              </a:rPr>
              <a:t>Practice pai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289-CB94-4F9D-9478-1DB05DEA1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91C-1A12-4241-A936-FA2324B69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5B7-84C9-4C73-832C-51547214A0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E98-8092-42DA-BE57-C0574A51B3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035-D0FC-415C-A850-8C0BDE3BD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719-94CA-400E-B29F-972AB965B6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112-002F-4B1D-8655-DBC026A3F8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AE3-75AD-4E39-BB72-3F089BAB89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EFD-1CD5-41B9-93FF-2166B5C327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CD0-E7DF-4AEA-AD5B-0DC1E10074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257-6A53-443E-80EF-25C90A3901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54360" y="6827760"/>
            <a:ext cx="266400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GB" sz="1900" spc="-1" strike="noStrike">
                <a:solidFill>
                  <a:srgbClr val="5f5f5f"/>
                </a:solidFill>
                <a:latin typeface="Arial"/>
              </a:rPr>
              <a:t>Practice pair 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6E4-28FB-45F1-88EF-FE81C3E7D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40" y="-12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DAA-99FF-4037-A6F7-1EFBAB8E9A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968-F097-4330-83A2-E48184FEF5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C16-3560-4AA7-BAFC-D008B1C11A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B0C-9E88-49CE-98A1-545B890911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B99-EE06-4611-A952-372B39C36F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700-64F9-473E-9F78-A3D4395C1B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986-EFF2-450C-99DD-5DEB486E8D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365-420D-4B2A-A878-779E934B3D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FF1-C630-40DC-8445-B3CE032BCA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B20-BFB4-4D04-897D-004EE7AD17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BB6-943F-4469-8701-3CFBFC9E2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ED4-903D-4C43-B0DF-1AD8F52BAE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703-E01E-490E-829A-C226BCC871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96C-37E5-43A7-8059-6E36E5F056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E0B-4E55-4A3F-8BC6-C4EFD92960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3E1-6D01-44D6-9219-5DF90E8D8E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88E-23A9-4B60-AF31-6AB38C30A9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E06-AA2C-4413-93A8-3456C18D40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AF1-3992-4CE4-9621-8143A2B7D7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401-4513-49E0-A85D-8B7849EB10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328-64A5-4E10-9482-95E0F80C0C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6DF-A548-41A0-AD4C-C5679E935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2AA-B7C4-45D8-9800-7C66EDE55F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96D-DD48-4DCB-8B5A-3F7955F771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5A3-9A91-4C36-9807-334584CF6B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9C2-4430-46C6-B245-1574A63BBDE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ABD-E0C6-4AB6-A41C-30045EB50BE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CAD-821B-43A6-879E-5FFC5772F4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8EA-AEF7-4D0F-B3EF-D89067385D5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EE1-FCB0-4542-9442-98082171D0E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E60-7D54-4AD8-B63C-65BD6094940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397-9F5B-4AC8-A9F3-CB80A3B79F8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A64-D81D-4876-AC04-4F8C69A6E7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015-FEA9-47F0-9870-0439AE292F4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148-5D42-4C1C-B68B-F737F4B2C1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67C-E287-49F9-8CEC-5C0980EF1D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260-1EF1-4CBF-B07C-4DDD0DEA8F3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DD3-6DBC-40C3-B4B0-56C388FD9E0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A65-84C7-4D04-8091-CD812EFE92B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D92-3AB1-429C-A5CD-D7460C2D72D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AD6-3973-4BC8-BA60-831472331BB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B1D-CEAB-435C-993C-C6D1E0F6BDE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E1E-8395-4218-8AF6-2A9B0D1E3A3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F5E-71A5-4181-8480-5B2EE65EC8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624-EA7B-47D8-8CA8-67991B6FF44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900-A69C-4E83-B031-F71703553E6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139-580B-4AC7-A409-AB8DD4DBAC3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4E5-CD1B-4964-87D3-1261C2F3479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207-8D7A-48B5-97E3-4FF49950548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1D8-5AA6-4218-80F8-D9B9798D06E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34B-241D-4EC2-B190-A798E789CB9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677-AB0D-4F1F-9FB4-F17E63E1A7A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42B-3872-4246-865E-28EEDCDE08E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2BF-E222-4F1B-B22A-70299FF8D6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37B-B4FE-4FC8-9F37-9BDCD52B7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7F4-3A17-4A14-84C2-39F8B9CB4AA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DF9-41F2-4F56-BD52-C09DF9496BE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06D-91F0-43E3-8AD9-0692DFD2C66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B28-ECA2-41E0-8FE0-C67086B828B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A94-9C30-490D-B05F-95BE720B31C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949-6B95-4EB3-9AAB-D84E7014F30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0E0-64F8-48C8-96E8-F1803BB969A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78184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4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7440" y="1707840"/>
            <a:ext cx="8781840" cy="48308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40" y="-842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53E-BB75-463A-928F-97E3892416F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B2B-D712-4C3A-AC91-4B5388067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6:23:11Z</dcterms:created>
  <dc:creator>Chris</dc:creator>
  <dc:description/>
  <dc:language>en-US</dc:language>
  <cp:lastModifiedBy>Psychology</cp:lastModifiedBy>
  <dcterms:modified xsi:type="dcterms:W3CDTF">2008-11-14T10:41:38Z</dcterms:modified>
  <cp:revision>6</cp:revision>
  <dc:subject/>
  <dc:title>Setting up powerpoint slides for images from Matlab</dc:title>
</cp:coreProperties>
</file>